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B4E-FA28-4E4B-9360-36FAB1F2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C71-071A-44F1-8DE3-DE3B84F2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849-4672-4B03-8512-59A29A0B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DD9-2A17-4587-A983-C773DAD7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20A-7927-44D7-B072-EB98A1F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9F6-AEF2-4B58-AD94-56E1AE0D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1F4-6446-4B63-8A4F-D648C0B5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D90-C05F-45C8-8372-44FAABEA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9BB-F525-4201-B9E3-EFE6585E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447-950B-46CF-8BFD-5B5B654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EDF-9D44-4388-A25B-00E4D2B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2F9-7ADE-46EF-A328-27DB23B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9EA-85FA-44A6-81FA-E0F38F59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Zoomies et les Ve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phoque a des chaus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 chauss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girafe porte un maillot de b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maillot de b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e éléphant porte la ju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e ju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lion a des pyj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pyja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ère ours porte un chap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Un chapea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vache porte un 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sieur Loup a des chausset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 chausset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ours porte un manteau rou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mantea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Zoomies et les vê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n Pu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t porte un tee-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tee-shi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demoiselle Renard porte une rob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ne rob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Mouton porte un pantal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pantal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9:46Z</dcterms:created>
  <dc:creator>CVJH-LAB</dc:creator>
  <dc:description/>
  <dc:language>en-US</dc:language>
  <cp:lastModifiedBy>nield411</cp:lastModifiedBy>
  <dcterms:modified xsi:type="dcterms:W3CDTF">2008-02-23T15:53:32Z</dcterms:modified>
  <cp:revision>15</cp:revision>
  <dc:subject/>
  <dc:title>Slide 1</dc:title>
</cp:coreProperties>
</file>